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9C88-7144-4642-81EF-B53FACC08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FEE1-9C12-461D-9E1A-228E0A8538C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CCAE-B6AD-481B-BC9F-92C824691FE8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5335-1EAC-4DDF-9257-575A47374FFA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99B6-015E-4718-BB85-F75258EFA1C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4730-232F-4660-AE0A-A010447D4532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E9B4-5EF3-47A8-AECE-8C6B87C4E32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9268-397B-40BF-8C96-F31EC3B2ABD6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D0ED-0516-4025-9DB2-1FE45AD4222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A41F-D45A-4C02-870F-4397E4740FEA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DC23-9F0A-4641-849D-5E2B5310E5A7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6045-29AE-4A56-BF34-1B2EC9DD714D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7890-1C12-4B3F-9F2C-32EC03A55B0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297C-B62B-4231-9499-FA11F9F8587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FDAB-A29A-42BF-9BED-18A7A202390B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1073-D0EE-4DAB-81AB-BF012A12A67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3588-38E4-428B-BA94-0FEEA098CC9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2510-5974-4BA2-939D-30B72E2DFF5A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log.cleveland.com/metro/2007/12/third_child_killed_by_shaker_h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38D1-B998-4C70-91D2-78E237EBDD1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E563-2502-4780-B3EA-6C02870657F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9BA5-D95D-4AF8-B945-1CC98A8D5ADB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3DB5-7749-4A96-9A66-2306CC13A8E4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423B-BFB1-474C-80A8-CFE96A8DC656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528B-912B-45AA-AED4-A0FB2EDB45D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B8E0-7341-48A3-A702-482C5843965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4768-2367-4A5B-ADD8-B0464201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B058-0F66-424E-900A-8B6843B3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DC308-08FB-428F-AD12-9F19C9F0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F0DC3-255C-4EFD-9DE1-677D1F74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DD072-52FE-461D-BC1F-D9EC489D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416FA-E949-4B35-ACE6-0519EB3A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3B94C-A0A3-4910-AFEA-CF9640D0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0C2ED-E704-476B-B25E-8572EB8E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32060-C5E7-431B-8451-8223039C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3AB7B-1092-47EE-B6D6-087190F1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6194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3248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0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6194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3248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2D64A-753D-4D4A-848D-97C96445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98F52-08FF-4F58-A943-3241DD93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7AA2-9399-4E23-B522-3CB6204F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55002-0769-44C0-846A-147C671E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0F454-7C24-494D-9F3C-58EE65D2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7A651-6891-46C0-AC9B-33966E76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2ECAB-79C0-4231-B219-533EB60A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8044A-CF28-458E-A9C6-5478886F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15722-8EBA-40F1-963E-5470AC7A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F5BA8-04C9-4097-B623-C6C590AC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D63E6-A09A-4C86-B9FD-9B036527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68A3E-D55D-4A62-8318-EF92DFA6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042E2-52D3-4F7D-8A1D-6D94FB1D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C14-D88A-4319-A59D-73E1E2E1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6194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3248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9140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6194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3248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386DA-3B09-426F-AC1B-3362C86D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1082D-A7B1-41F1-B247-BB6392EC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B6D76-B0D7-4CC0-BEC0-E11E6FDC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82F95-4C41-436F-9765-F24B05FB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9AE39-3008-4B2C-8C6C-D32229DE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F5EF8-D2BC-42DF-950F-8F9C4D25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1D4D4-E44E-4E05-9896-CED913A2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28768-9563-4944-8902-AEB5367D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74895-7337-4329-82F7-4703AB4F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66401-3B0D-4166-9C11-1A5E88C6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1C1D-064D-43A6-B893-25A53944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BD031-50AC-4FF9-B98B-BC1C299D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7E2E8-CCED-4B9E-8526-590FC456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6194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3248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9140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6194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3248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FB105-DB3B-4F0A-9FB1-11EFC6CB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29440-CE4D-4693-B689-5B9E53E1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E3E91-CA9E-4936-A977-85F4467F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CF815-7617-42AA-BFA2-2A9F377C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9B2C0-2E1F-4081-B8EC-6184ED5B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E2CF9-5B89-4A27-8E77-447E152C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4EBF0-4047-4012-B7D2-C32146A2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DDA6F-C11D-4264-9C4A-E95D949F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9554-0ABA-407E-8DD0-D21725D7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067C2-2F0E-429E-B2B7-BA49E1C8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FE6B2-B050-47A3-A527-30390975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50BB4-9E11-4442-99EB-21825E2C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C6588-20A4-4D92-B126-53CC1E8A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6194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3248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9140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6194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3248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119AC-7AF1-44A5-95E8-523CFF08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947958-C287-4641-8D4C-4BA70BC1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001B23-74BE-4E6C-88C1-0C5506D3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F71DC-6899-443D-984C-F55674F6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A36793-F716-4CE2-8256-5043D1E7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9B302-3D16-4BBB-ACA1-D5CFA6DB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51A0-0C37-44A4-B0AA-EDB5798C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3A4AED-C95D-4CE6-98BE-B72FC85F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B5AEF-474D-41CB-9479-AD8B6508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82091-142E-4336-8ECD-89F0C468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57EF2E-9876-416E-8E76-AAD0D208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739276-3F45-489D-BDC1-3778FA78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B1C660-93CA-4819-9E8F-A0793D2C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6194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3248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9140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6194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3248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B350DB-DFFC-4E0D-B737-2ECF3BD8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CB4EA3-D884-49DE-9B8B-88878F53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2CD164-8544-4AD4-9476-F3BD51A4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B76302-19AA-44A2-A397-C71CCE13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1ECB-7D9C-44A3-8F1B-4A58A0A0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77555-A7CB-4F93-A1FA-DA38A79E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A9EF29-A2B7-4956-9E43-62395D58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E769B-6520-4100-8602-47F078C5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0E89B7-5480-4CA0-9C3C-13831888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5D92F8-02B4-4C10-99EB-681DD76A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61F0C5-DC29-41F6-91D7-FBDC9D33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F37DBE-BF45-4300-8A7D-E1721A60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EC1F26-4348-4D42-B31D-30BFE39F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6194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3248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9140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6194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3248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6C6CCC-C1DF-4739-AD5F-E4A72DF7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5F11E6-C0CC-40D4-A6E2-ACCF91F1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7800-DB91-4BB9-AA2F-061CC2F2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4919CA-CD34-4D55-BDAB-E605E36D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60C5A9-72BB-4151-B10B-CAD213FC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5CDF45-BE1E-4DAB-AB95-587C2BC2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879E37-A734-4998-BDE1-ED7AF0BB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B44A41-1E6E-458B-9B6E-9301F57B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44540B-FC85-4248-A063-C1450E63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BF2313-3756-4A53-B251-BED9A87E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949710-F79F-4988-8485-9A5C7E98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892DB4-FB48-411C-8F25-6EAC3612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8E255A-C631-47F8-AB1D-52205905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F2FF-9FC8-4FF4-AAC6-24F88F28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6194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3248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9140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6194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3248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87552E-BD9F-4B53-BDCE-F975F1ED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8D72-C7C7-41AF-B7CC-0CE27F22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85AA-8B56-40C2-9B3C-A2BDEA78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0468-460F-4346-98A0-6E261D5C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A1CB-419C-4710-99FD-357AEE60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2E2F-FCBA-4798-9006-8E5529F8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E5D4-0A5A-402B-8619-A482652E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2439-56C0-4E02-809F-DD663529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FA86E-0C26-42F3-BE23-66DB16DD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F7BD3-54A0-4DB4-8C16-2514FA30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47084-719C-46D4-8ED9-CE6A1D6D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0553A-3382-4267-B274-810F3153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AA4F4-A28F-4644-A24B-5C2C0CD1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8A0-6AE9-4C12-8F74-CDA073F6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92BC4-B178-491B-9E54-F617406F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DCCAA-3394-414E-805D-D05E9FA4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D6C54-5245-40B7-A9B1-6174277A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573AB-5566-4703-A304-68034767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27118-AF40-4EE9-B4C1-86DA86C6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65390-C048-43AC-BA4F-A87CC27B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6194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248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0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6194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248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2639C-5DB9-4B59-8FFD-C5DE35C0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31D35-6835-4DE5-B45A-F5F21BF4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D3EBF-DC75-4E9E-B007-796BCCE4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29A07-63B3-404D-8387-833CB115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32DB-4375-4AB9-B153-3286756E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26F7C-0547-4E7B-BFCA-73AD00BF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E3AAB-6D36-4450-B26A-97AA8270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E924C-56AE-43C7-838C-DC2CCC9B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E6E5C-9FEB-478D-A2C9-4DCAD122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F576D-AC33-4A98-832B-AE0C0756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6CE32-6AF9-439E-AE85-FDA51838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D27D1-BCDC-4C4D-9A27-64D978AC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9E6F3-9D4B-414F-B7C3-93BF5253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6194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248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40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6194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3248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AA1A2-1055-479D-B016-AF0CEB1E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C9CB2-246B-4C44-A126-98FD978E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6524-C1BD-4B7C-A083-E12EEE18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0C4C8-823C-4655-BDC8-B502DBCE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80FC0-57E8-46B8-9B02-816A3687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3379E-1598-427C-B9EF-8CF17C6F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E1B17-F6F6-4683-A88C-DF1F9451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191C2-3817-4352-A806-023E7A7C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EE3B8-5AB4-4BE5-9528-2F0C7A8A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26293-3F4A-4BDC-8DE4-91BAD85F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42698-39AA-47A1-8122-DAD3E96A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D8E08-82F6-42D7-AEBF-72F04B62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A9C5B-3ECF-452F-B276-E9E7A8D1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0B1D-1BCB-43D7-BF20-04D24DB9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6194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3248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9140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6194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3248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41B45-A8F0-4AC7-9838-5B62BAE6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4702C-D216-4802-8146-9F4CA47A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6F010-5D65-4DD8-A2D3-C31E6DA1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FD4CF-CDBF-4E90-8941-4A0850BD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15EEA-F1D5-4CA3-BC3C-6EFAC27D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B3418-68D4-4AB9-9C8C-FCF9B0DD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C0227-BFAD-4B8B-A148-8D5A620E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69103-990A-40A9-9F9A-7368A765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66BA1-FAD2-49D1-AF07-46A75B04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7C9F3-8EDD-4C18-AAAC-BBDFEEB2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C68-FC29-47B5-B58F-82B4573D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9E7B3-F85C-4BB1-8EB8-0F11D87D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F1FEE-7AAB-48A8-B0F6-88F638E0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6194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3248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0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6194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3248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6F4E6-6306-4567-8E59-51E23271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2526D-A325-421C-9DFC-A8E42C32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1307A-FE38-4211-BBFB-6F37AF07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D3FA5-CC34-474B-9BEB-4AEB200B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F38B7-2268-43B1-B15F-30469792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1A264-2F96-4494-AAD8-E2CC3AEB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7ECA8-3761-4309-BFD9-85A4A5AD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B0B68-4A96-4192-B97D-6E4B7620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8F9B-1FEB-4CE9-B563-6D54779A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5FF54-55D2-4DCE-A78B-5993FFB6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43155-DFA7-47F4-A535-9EC30EF5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6F10A-58C5-4D41-BB31-661F3D57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8315F-53AC-4D75-A8E7-761ABE41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6194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3248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9140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6194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3248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C0916-6794-4745-8CB8-E4F2921C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D7352-1525-4C98-8815-C902DC9F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4ED28-20DB-46D2-9873-6880A314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671A2-7E8D-450E-B605-D381090C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5C7AE-8BC0-4299-8293-C45CA83E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06566-5803-48D1-9B6C-B109024E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6EF6-D96E-48F3-8A24-74CAD68E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B9EC3-0CCE-45A5-B142-F8FBA0F8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DAECB-02CF-44AB-ABCA-361063CC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E4C05-D495-443D-AE6B-C0AED750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1D028-1AFE-436D-8048-9812AE06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914040" y="4465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1CB22-276C-4426-B917-60812186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3720" y="2514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91404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5013720" y="4465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128E7-CCBC-433A-9508-F053110D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6194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324840" y="2514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9140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6194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324840" y="4465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24350-46D2-49AA-8D90-D8ADE4F5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2C933-185B-428F-984E-97BCD741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88618-E970-43FF-AF08-AF6E36FB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AEEBC-1C26-4BAA-950D-A75E0D2D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10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65600" y="6582960"/>
            <a:ext cx="393840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PowerCheck Electrical Safety Services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1978200"/>
            <a:ext cx="587160" cy="48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43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34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435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10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8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9"/>
          </p:nvPr>
        </p:nvSpPr>
        <p:spPr>
          <a:xfrm>
            <a:off x="2865600" y="6582960"/>
            <a:ext cx="393840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PowerCheck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ectrical Safety Services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0"/>
          </p:nvPr>
        </p:nvSpPr>
        <p:spPr>
          <a:xfrm>
            <a:off x="83880" y="1978200"/>
            <a:ext cx="587160" cy="48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479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1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82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483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10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2"/>
          </p:nvPr>
        </p:nvSpPr>
        <p:spPr>
          <a:xfrm>
            <a:off x="2865600" y="6429240"/>
            <a:ext cx="393840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PowerCheck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3"/>
          </p:nvPr>
        </p:nvSpPr>
        <p:spPr>
          <a:xfrm>
            <a:off x="83880" y="1978200"/>
            <a:ext cx="587160" cy="48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527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9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0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531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10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2865600" y="6582960"/>
            <a:ext cx="393840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PowerCheck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ectrical Safety Services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83880" y="1978200"/>
            <a:ext cx="587160" cy="48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575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77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78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57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10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7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8"/>
          </p:nvPr>
        </p:nvSpPr>
        <p:spPr>
          <a:xfrm>
            <a:off x="2865600" y="6582960"/>
            <a:ext cx="393840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PowerCheck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ectrical Safety Services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9"/>
          </p:nvPr>
        </p:nvSpPr>
        <p:spPr>
          <a:xfrm>
            <a:off x="83880" y="1978200"/>
            <a:ext cx="587160" cy="48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623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25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26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627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10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40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41"/>
          </p:nvPr>
        </p:nvSpPr>
        <p:spPr>
          <a:xfrm>
            <a:off x="2865600" y="6582960"/>
            <a:ext cx="393840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PowerCheck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ectrical Safety Services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42"/>
          </p:nvPr>
        </p:nvSpPr>
        <p:spPr>
          <a:xfrm>
            <a:off x="83880" y="1978200"/>
            <a:ext cx="587160" cy="48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67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7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74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675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10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3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4"/>
          </p:nvPr>
        </p:nvSpPr>
        <p:spPr>
          <a:xfrm>
            <a:off x="2865600" y="6582960"/>
            <a:ext cx="393840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imes New Roman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Electrical Safety Services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5"/>
          </p:nvPr>
        </p:nvSpPr>
        <p:spPr>
          <a:xfrm>
            <a:off x="83880" y="1978200"/>
            <a:ext cx="587160" cy="48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Group 1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10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9501-83F0-437A-88AE-6AF1AAA1261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95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7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9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10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2865600" y="6582960"/>
            <a:ext cx="393840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PowerCheck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ectrical Safety Services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83880" y="1978200"/>
            <a:ext cx="587160" cy="48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5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6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47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10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2865600" y="6582960"/>
            <a:ext cx="393840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PowerCheck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ectrical Safety Services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83880" y="1978200"/>
            <a:ext cx="587160" cy="48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9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4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95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10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2865600" y="6582960"/>
            <a:ext cx="393840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PowerCheck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ectrical Safety Services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83880" y="1978200"/>
            <a:ext cx="587160" cy="48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239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1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2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243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10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2865600" y="6582960"/>
            <a:ext cx="393840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PowerCheck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ectrical Safety Services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3880" y="1978200"/>
            <a:ext cx="587160" cy="48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287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9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0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291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10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9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0"/>
          </p:nvPr>
        </p:nvSpPr>
        <p:spPr>
          <a:xfrm>
            <a:off x="2865600" y="6582960"/>
            <a:ext cx="393840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PowerCheck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ectrical Safety Services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1"/>
          </p:nvPr>
        </p:nvSpPr>
        <p:spPr>
          <a:xfrm>
            <a:off x="83880" y="1978200"/>
            <a:ext cx="587160" cy="48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335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7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8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33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10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2865600" y="6582960"/>
            <a:ext cx="393840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PowerCheck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ectrical Safety Services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83880" y="1978200"/>
            <a:ext cx="587160" cy="48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383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5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86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387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10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2865600" y="6582960"/>
            <a:ext cx="393840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PowerCheck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ectrical Safety Services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3880" y="1978200"/>
            <a:ext cx="587160" cy="48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check.c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2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2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lectrical Risks, Safety and Solutions for Older Hom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673160" y="2868480"/>
            <a:ext cx="3708360" cy="185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Presented by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Brian Coo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PowerCheck Electrical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Safety Servic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powercheck.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ring before 195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914040" y="2449440"/>
            <a:ext cx="452124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nob-and-tube.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standard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in homes before 195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f outlets have been changed, and basement enclosed, knob-&amp;-tube often not identifi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nob-&amp;-tube: Still present in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most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-1950 homes toda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94" name="Picture 1038" descr="two-prong receptacle4"/>
          <p:cNvPicPr/>
          <p:nvPr/>
        </p:nvPicPr>
        <p:blipFill>
          <a:blip r:embed="rId1"/>
          <a:stretch/>
        </p:blipFill>
        <p:spPr>
          <a:xfrm>
            <a:off x="6132600" y="2637000"/>
            <a:ext cx="1792080" cy="2438280"/>
          </a:xfrm>
          <a:prstGeom prst="rect">
            <a:avLst/>
          </a:prstGeom>
          <a:ln w="0">
            <a:noFill/>
          </a:ln>
        </p:spPr>
      </p:pic>
      <p:sp>
        <p:nvSpPr>
          <p:cNvPr id="795" name="Text Box 1039"/>
          <p:cNvSpPr/>
          <p:nvPr/>
        </p:nvSpPr>
        <p:spPr>
          <a:xfrm>
            <a:off x="5940360" y="5318280"/>
            <a:ext cx="2519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riginal two-prong, ungrounded receptacle. Prior to 1950 this would have been fed by knob-and-tube conductor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Footer Placeholder 3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nob and tube: Quali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14040" y="2437920"/>
            <a:ext cx="430524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 well designed system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0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avy gauge conduct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0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paced well apar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0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ldered connection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ork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seldom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done by non-professiona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Text Box 27"/>
          <p:cNvSpPr/>
          <p:nvPr/>
        </p:nvSpPr>
        <p:spPr>
          <a:xfrm>
            <a:off x="5365800" y="5165640"/>
            <a:ext cx="332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Knob and tube wiring runs along the studs and through the joists of older home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00" name="Picture 29" descr="Knob_and_tube_Wikipedia"/>
          <p:cNvPicPr/>
          <p:nvPr/>
        </p:nvPicPr>
        <p:blipFill>
          <a:blip r:embed="rId1"/>
          <a:stretch/>
        </p:blipFill>
        <p:spPr>
          <a:xfrm>
            <a:off x="5365800" y="2514600"/>
            <a:ext cx="3397320" cy="255420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33"/>
          <p:cNvSpPr/>
          <p:nvPr/>
        </p:nvSpPr>
        <p:spPr>
          <a:xfrm>
            <a:off x="5486400" y="30481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ob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2" name="Text Box 34"/>
          <p:cNvSpPr/>
          <p:nvPr/>
        </p:nvSpPr>
        <p:spPr>
          <a:xfrm>
            <a:off x="7772400" y="3032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b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Line 36"/>
          <p:cNvSpPr/>
          <p:nvPr/>
        </p:nvSpPr>
        <p:spPr>
          <a:xfrm>
            <a:off x="6095880" y="3429000"/>
            <a:ext cx="15264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4" name="Line 37"/>
          <p:cNvSpPr/>
          <p:nvPr/>
        </p:nvSpPr>
        <p:spPr>
          <a:xfrm>
            <a:off x="6172200" y="3429000"/>
            <a:ext cx="3808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5" name="Line 38"/>
          <p:cNvSpPr/>
          <p:nvPr/>
        </p:nvSpPr>
        <p:spPr>
          <a:xfrm flipH="1">
            <a:off x="7848720" y="3352680"/>
            <a:ext cx="30456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6" name="Line 39"/>
          <p:cNvSpPr/>
          <p:nvPr/>
        </p:nvSpPr>
        <p:spPr>
          <a:xfrm flipH="1">
            <a:off x="8153280" y="3352680"/>
            <a:ext cx="76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7" name="Footer Placeholder 3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nob and tube: Haz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459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 ground prot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t suitable for high-temperature ligh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andyman add-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0" name="Text Box 32"/>
          <p:cNvSpPr/>
          <p:nvPr/>
        </p:nvSpPr>
        <p:spPr>
          <a:xfrm>
            <a:off x="5522760" y="45846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riginal 2-prong outlet swapped for modern 3-prong, falsely presenting receptacle is grounde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11" name="Picture 35" descr="two-prong receptacle4"/>
          <p:cNvPicPr/>
          <p:nvPr/>
        </p:nvPicPr>
        <p:blipFill>
          <a:blip r:embed="rId1"/>
          <a:stretch/>
        </p:blipFill>
        <p:spPr>
          <a:xfrm>
            <a:off x="5432400" y="2589120"/>
            <a:ext cx="1120680" cy="152424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37" descr="Decora receptacle"/>
          <p:cNvPicPr/>
          <p:nvPr/>
        </p:nvPicPr>
        <p:blipFill>
          <a:blip r:embed="rId2"/>
          <a:stretch/>
        </p:blipFill>
        <p:spPr>
          <a:xfrm>
            <a:off x="7180200" y="2360520"/>
            <a:ext cx="1576440" cy="2057400"/>
          </a:xfrm>
          <a:prstGeom prst="rect">
            <a:avLst/>
          </a:prstGeom>
          <a:ln w="0">
            <a:noFill/>
          </a:ln>
        </p:spPr>
      </p:pic>
      <p:sp>
        <p:nvSpPr>
          <p:cNvPr id="813" name="AutoShape 38"/>
          <p:cNvSpPr/>
          <p:nvPr/>
        </p:nvSpPr>
        <p:spPr>
          <a:xfrm>
            <a:off x="6781680" y="312264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4" name="Footer Placeholder 3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nob and tube: Solu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4665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wire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$20,000 +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or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wiring usually checks out fine: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refore GFCIs provide excellent ground protection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$20 ea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N EXCELLENT &amp; SAFE SOLUTION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7" name="Text Box 5"/>
          <p:cNvSpPr/>
          <p:nvPr/>
        </p:nvSpPr>
        <p:spPr>
          <a:xfrm>
            <a:off x="5715000" y="4800600"/>
            <a:ext cx="325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GFCI receptacle provides excellent ground protection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18" name="Picture 14" descr="gfci_outlet"/>
          <p:cNvPicPr/>
          <p:nvPr/>
        </p:nvPicPr>
        <p:blipFill>
          <a:blip r:embed="rId1"/>
          <a:stretch/>
        </p:blipFill>
        <p:spPr>
          <a:xfrm>
            <a:off x="6372360" y="2514600"/>
            <a:ext cx="1363680" cy="2197080"/>
          </a:xfrm>
          <a:prstGeom prst="rect">
            <a:avLst/>
          </a:prstGeom>
          <a:ln w="0">
            <a:noFill/>
          </a:ln>
        </p:spPr>
      </p:pic>
      <p:sp>
        <p:nvSpPr>
          <p:cNvPr id="819" name="Footer Placeholder 3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nob and tube finding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 99% of hom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199"/>
              </a:spcBef>
              <a:buClr>
                <a:srgbClr val="003366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Knob and tube wiring is still in homes tod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39640" indent="-1792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105000"/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ually not visible due to new panel and finished basemen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003366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Knob-and-tube wiring is in excellent condi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39640" indent="-1792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105000"/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 need for expensive replacement, but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003366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riginal 2-prong outlets now modern 3-pro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39640" indent="-1792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105000"/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alsely presenting outlets are grounded, thus rated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High Risk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st to eliminate fire risk of knob-&amp;-tube: Less than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$5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ESULT: SAFE AND HAPPY HOMEOWNERS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2" name="Footer Placeholder 3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ring of the 1950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243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grounded wiring continued through the 1950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me concerns as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ob-&amp;-tub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quires GFCIs for ground prot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25" name="Content Placeholder 4" descr=""/>
          <p:cNvPicPr/>
          <p:nvPr/>
        </p:nvPicPr>
        <p:blipFill>
          <a:blip r:embed="rId1"/>
          <a:stretch/>
        </p:blipFill>
        <p:spPr>
          <a:xfrm>
            <a:off x="5219640" y="2421000"/>
            <a:ext cx="3708360" cy="278136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5"/>
          <p:cNvSpPr/>
          <p:nvPr/>
        </p:nvSpPr>
        <p:spPr>
          <a:xfrm>
            <a:off x="5724360" y="5300640"/>
            <a:ext cx="32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Ungrounded 2-prong receptacle fed by “modern” cable, NMD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7" name="Footer Placeholder 3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ring of the 1960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914040" y="2469960"/>
            <a:ext cx="48006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ounding of receptacles: 196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ew cable introduced with grou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sulation still not suitable for high-temperature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igh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30" name="Picture 5" descr="romex"/>
          <p:cNvPicPr/>
          <p:nvPr/>
        </p:nvPicPr>
        <p:blipFill>
          <a:blip r:embed="rId1"/>
          <a:stretch/>
        </p:blipFill>
        <p:spPr>
          <a:xfrm>
            <a:off x="5546880" y="2565360"/>
            <a:ext cx="3201840" cy="2260800"/>
          </a:xfrm>
          <a:prstGeom prst="rect">
            <a:avLst/>
          </a:prstGeom>
          <a:ln w="0">
            <a:noFill/>
          </a:ln>
        </p:spPr>
      </p:pic>
      <p:sp>
        <p:nvSpPr>
          <p:cNvPr id="831" name="Text Box 6"/>
          <p:cNvSpPr/>
          <p:nvPr/>
        </p:nvSpPr>
        <p:spPr>
          <a:xfrm>
            <a:off x="6084720" y="51483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ew cable of the 1960s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NMD3 with ground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2" name="Footer Placeholder 3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6336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ring of the 1970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914400" y="2457360"/>
            <a:ext cx="4572000" cy="40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dern electrical cable introduced,  suitable for recessed lighting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azardous wiring abounds!!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105000"/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ue to the rapid rise in basement suites, kitchen renos &amp; powering of garages: Unauthorized electrical work thrive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105000"/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is is encouraged with the proliferation of self-help books and easy access of electrical suppli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Text Box 4"/>
          <p:cNvSpPr/>
          <p:nvPr/>
        </p:nvSpPr>
        <p:spPr>
          <a:xfrm>
            <a:off x="5715000" y="542304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odern cables: NMD7 &amp; NMD90 But along with it comes “do-it-yourselfers”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36" name="Picture 5" descr="Handyman8"/>
          <p:cNvPicPr/>
          <p:nvPr/>
        </p:nvPicPr>
        <p:blipFill>
          <a:blip r:embed="rId1"/>
          <a:stretch/>
        </p:blipFill>
        <p:spPr>
          <a:xfrm>
            <a:off x="5759280" y="2514600"/>
            <a:ext cx="2916360" cy="2867040"/>
          </a:xfrm>
          <a:prstGeom prst="rect">
            <a:avLst/>
          </a:prstGeom>
          <a:ln w="0">
            <a:noFill/>
          </a:ln>
        </p:spPr>
      </p:pic>
      <p:sp>
        <p:nvSpPr>
          <p:cNvPr id="837" name="Footer Placeholder 3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Aluminum Years: 1966–197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4089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uminum wiring: A cost-effective solution due to the high price of coppe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966–197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stalled in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vast majorit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of homes during that perio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ill present today in nearly all of these hom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0" name="Picture 5" descr="ivory receptacle"/>
          <p:cNvPicPr/>
          <p:nvPr/>
        </p:nvPicPr>
        <p:blipFill>
          <a:blip r:embed="rId1"/>
          <a:stretch/>
        </p:blipFill>
        <p:spPr>
          <a:xfrm>
            <a:off x="6084720" y="2924280"/>
            <a:ext cx="1943280" cy="1942920"/>
          </a:xfrm>
          <a:prstGeom prst="rect">
            <a:avLst/>
          </a:prstGeom>
          <a:ln w="0">
            <a:noFill/>
          </a:ln>
        </p:spPr>
      </p:pic>
      <p:sp>
        <p:nvSpPr>
          <p:cNvPr id="841" name="Text Box 6"/>
          <p:cNvSpPr/>
          <p:nvPr/>
        </p:nvSpPr>
        <p:spPr>
          <a:xfrm>
            <a:off x="5715000" y="5029200"/>
            <a:ext cx="312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n aluminum-rated receptacle for use with aluminum wiring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2" name="Footer Placeholder 3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ivory receptacle"/>
          <p:cNvPicPr/>
          <p:nvPr/>
        </p:nvPicPr>
        <p:blipFill>
          <a:blip r:embed="rId1"/>
          <a:stretch/>
        </p:blipFill>
        <p:spPr>
          <a:xfrm>
            <a:off x="5257800" y="299736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Aluminum wiring fire haz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4648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1800"/>
              </a:spcBef>
              <a:buClr>
                <a:srgbClr val="003366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iginal system fin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howe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2599"/>
              </a:spcBef>
              <a:buClr>
                <a:srgbClr val="003366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iginal outlets and switches swapped for modern outlets and switches not rated for aluminum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6" name="Picture 6" descr="Decora receptacle"/>
          <p:cNvPicPr/>
          <p:nvPr/>
        </p:nvPicPr>
        <p:blipFill>
          <a:blip r:embed="rId2"/>
          <a:stretch/>
        </p:blipFill>
        <p:spPr>
          <a:xfrm>
            <a:off x="7104240" y="2800440"/>
            <a:ext cx="1693800" cy="2209680"/>
          </a:xfrm>
          <a:prstGeom prst="rect">
            <a:avLst/>
          </a:prstGeom>
          <a:ln w="0">
            <a:noFill/>
          </a:ln>
        </p:spPr>
      </p:pic>
      <p:sp>
        <p:nvSpPr>
          <p:cNvPr id="847" name="AutoShape 7"/>
          <p:cNvSpPr/>
          <p:nvPr/>
        </p:nvSpPr>
        <p:spPr>
          <a:xfrm>
            <a:off x="6705720" y="371484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Text Box 8"/>
          <p:cNvSpPr/>
          <p:nvPr/>
        </p:nvSpPr>
        <p:spPr>
          <a:xfrm>
            <a:off x="5562720" y="5010120"/>
            <a:ext cx="3200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riginal aluminum-rated outlets are commonly found swapped for modern, non-aluminum-rated outlet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9" name="Footer Placeholder 3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996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C Fire Stat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14040" y="2462040"/>
            <a:ext cx="42339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ported fires per yea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3366"/>
              </a:buClr>
              <a:buSzPct val="105000"/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ported fires: 4500–600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3366"/>
              </a:buClr>
              <a:buSzPct val="105000"/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re fatalities: 18–3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ical fires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3366"/>
              </a:buClr>
              <a:buSzPct val="105000"/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86 (5 year averag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3366"/>
              </a:buClr>
              <a:buSzPct val="105000"/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presents about 10% of residential fir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bout 40% of reported fires the cause of fire is unknown. Electrical may have been the caus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29" name="Picture 8" descr="HouseFire_2"/>
          <p:cNvPicPr/>
          <p:nvPr/>
        </p:nvPicPr>
        <p:blipFill>
          <a:blip r:embed="rId1"/>
          <a:srcRect l="971" t="4701" r="0" b="3624"/>
          <a:stretch/>
        </p:blipFill>
        <p:spPr>
          <a:xfrm>
            <a:off x="5003640" y="2571840"/>
            <a:ext cx="4032360" cy="3378240"/>
          </a:xfrm>
          <a:prstGeom prst="rect">
            <a:avLst/>
          </a:prstGeom>
          <a:ln w="0">
            <a:noFill/>
          </a:ln>
        </p:spPr>
      </p:pic>
      <p:sp>
        <p:nvSpPr>
          <p:cNvPr id="730" name="Footer Placeholder 3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Aluminum wiring sol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43052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wir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$20,000 +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pproved copper pigtailing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or aluminum rated devices)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ypical cost: $1000 - $15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OTE: “Approved” means with the correct wire connectors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52" name="Picture 12" descr="aluminum wiring_burned2"/>
          <p:cNvPicPr/>
          <p:nvPr/>
        </p:nvPicPr>
        <p:blipFill>
          <a:blip r:embed="rId1"/>
          <a:srcRect l="4376" t="0" r="4092" b="0"/>
          <a:stretch/>
        </p:blipFill>
        <p:spPr>
          <a:xfrm>
            <a:off x="5316480" y="2527200"/>
            <a:ext cx="3522600" cy="273996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14"/>
          <p:cNvSpPr/>
          <p:nvPr/>
        </p:nvSpPr>
        <p:spPr>
          <a:xfrm>
            <a:off x="5219640" y="5340240"/>
            <a:ext cx="37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luminum-wiring pigtailing with incorrect wire connectors; commonly foun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4" name="Footer Placeholder 3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azardous add-ons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bundant in older houses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24360" cy="40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ized cab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rrect cab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grounded cab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versized circuit break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d electrical connec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use holes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X cables incorrectly install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ll these deficiencies create Real fire hazards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57" name="Content Placeholder 3" descr=""/>
          <p:cNvPicPr/>
          <p:nvPr/>
        </p:nvPicPr>
        <p:blipFill>
          <a:blip r:embed="rId1"/>
          <a:stretch/>
        </p:blipFill>
        <p:spPr>
          <a:xfrm>
            <a:off x="5759280" y="2514600"/>
            <a:ext cx="2387880" cy="1790640"/>
          </a:xfrm>
          <a:prstGeom prst="rect">
            <a:avLst/>
          </a:prstGeom>
          <a:ln w="0">
            <a:noFill/>
          </a:ln>
        </p:spPr>
      </p:pic>
      <p:pic>
        <p:nvPicPr>
          <p:cNvPr id="858" name="Content Placeholder 4" descr=""/>
          <p:cNvPicPr/>
          <p:nvPr/>
        </p:nvPicPr>
        <p:blipFill>
          <a:blip r:embed="rId2"/>
          <a:stretch/>
        </p:blipFill>
        <p:spPr>
          <a:xfrm>
            <a:off x="5759280" y="4457880"/>
            <a:ext cx="2387880" cy="1790640"/>
          </a:xfrm>
          <a:prstGeom prst="rect">
            <a:avLst/>
          </a:prstGeom>
          <a:ln w="0">
            <a:noFill/>
          </a:ln>
        </p:spPr>
      </p:pic>
      <p:sp>
        <p:nvSpPr>
          <p:cNvPr id="859" name="Footer Placeholder 3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Footer Placeholder 3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91260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azardous add-ons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posed electrical conne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862" name="Group 16"/>
          <p:cNvGrpSpPr/>
          <p:nvPr/>
        </p:nvGrpSpPr>
        <p:grpSpPr>
          <a:xfrm>
            <a:off x="3429000" y="2584440"/>
            <a:ext cx="4671720" cy="3076200"/>
            <a:chOff x="3429000" y="2584440"/>
            <a:chExt cx="4671720" cy="3076200"/>
          </a:xfrm>
        </p:grpSpPr>
        <p:pic>
          <p:nvPicPr>
            <p:cNvPr id="863" name="Picture 11" descr="Connection in direct contact with wood"/>
            <p:cNvPicPr/>
            <p:nvPr/>
          </p:nvPicPr>
          <p:blipFill>
            <a:blip r:embed="rId1"/>
            <a:srcRect l="0" t="0" r="0" b="20855"/>
            <a:stretch/>
          </p:blipFill>
          <p:spPr>
            <a:xfrm>
              <a:off x="3429000" y="2584440"/>
              <a:ext cx="4668480" cy="30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Text Box 8"/>
            <p:cNvSpPr/>
            <p:nvPr/>
          </p:nvSpPr>
          <p:spPr>
            <a:xfrm>
              <a:off x="6425280" y="2774160"/>
              <a:ext cx="167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xposed  connections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Line 9"/>
            <p:cNvSpPr/>
            <p:nvPr/>
          </p:nvSpPr>
          <p:spPr>
            <a:xfrm flipH="1">
              <a:off x="6351120" y="3720960"/>
              <a:ext cx="1460880" cy="94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Line 12"/>
            <p:cNvSpPr/>
            <p:nvPr/>
          </p:nvSpPr>
          <p:spPr>
            <a:xfrm flipH="1">
              <a:off x="5911920" y="3720960"/>
              <a:ext cx="1899720" cy="94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67" name="Text Box 15"/>
          <p:cNvSpPr/>
          <p:nvPr/>
        </p:nvSpPr>
        <p:spPr>
          <a:xfrm>
            <a:off x="912960" y="2513160"/>
            <a:ext cx="229068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connections become at all loose they will arc, easily igniting surrounding wall materia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m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5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azardous add-ons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 junction box behind lamphol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0" name="Text Box 3"/>
          <p:cNvSpPr/>
          <p:nvPr/>
        </p:nvSpPr>
        <p:spPr>
          <a:xfrm>
            <a:off x="990720" y="5715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1" name="Text Box 5"/>
          <p:cNvSpPr/>
          <p:nvPr/>
        </p:nvSpPr>
        <p:spPr>
          <a:xfrm>
            <a:off x="912960" y="2513160"/>
            <a:ext cx="23619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connections become at all loose they will arc, easily igniting surrounding ceiling materia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m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72" name="Picture 6" descr="IMG_4956"/>
          <p:cNvPicPr/>
          <p:nvPr/>
        </p:nvPicPr>
        <p:blipFill>
          <a:blip r:embed="rId1"/>
          <a:srcRect l="0" t="9638" r="0" b="11817"/>
          <a:stretch/>
        </p:blipFill>
        <p:spPr>
          <a:xfrm>
            <a:off x="3505320" y="2492280"/>
            <a:ext cx="4902120" cy="31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Footer Placeholder 3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1260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azardous add-ons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tension cords stapled to wa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875" name="Picture 15" descr="Brians_extension cord"/>
          <p:cNvPicPr/>
          <p:nvPr/>
        </p:nvPicPr>
        <p:blipFill>
          <a:blip r:embed="rId1"/>
          <a:srcRect l="0" t="0" r="3536" b="0"/>
          <a:stretch/>
        </p:blipFill>
        <p:spPr>
          <a:xfrm>
            <a:off x="3817800" y="2514600"/>
            <a:ext cx="3810240" cy="2882880"/>
          </a:xfrm>
          <a:prstGeom prst="rect">
            <a:avLst/>
          </a:prstGeom>
          <a:ln w="0">
            <a:noFill/>
          </a:ln>
        </p:spPr>
      </p:pic>
      <p:sp>
        <p:nvSpPr>
          <p:cNvPr id="876" name="Line 10"/>
          <p:cNvSpPr/>
          <p:nvPr/>
        </p:nvSpPr>
        <p:spPr>
          <a:xfrm flipH="1">
            <a:off x="6485040" y="3200400"/>
            <a:ext cx="1676160" cy="1600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7" name="Line 11"/>
          <p:cNvSpPr/>
          <p:nvPr/>
        </p:nvSpPr>
        <p:spPr>
          <a:xfrm flipH="1">
            <a:off x="4351320" y="3200400"/>
            <a:ext cx="3581280" cy="1752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8" name="Text Box 12"/>
          <p:cNvSpPr/>
          <p:nvPr/>
        </p:nvSpPr>
        <p:spPr>
          <a:xfrm>
            <a:off x="7932600" y="2819520"/>
            <a:ext cx="10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Text Box 17"/>
          <p:cNvSpPr/>
          <p:nvPr/>
        </p:nvSpPr>
        <p:spPr>
          <a:xfrm>
            <a:off x="912960" y="2513160"/>
            <a:ext cx="266832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ples put pressure on cord. Over time the cord insulation breaks down. The staple then creates a direct short across the wires, which can easily result in fir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m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Footer Placeholder 5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azardous add-ons</a:t>
            </a:r>
            <a:br>
              <a:rPr sz="36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eboard heaters incorrectly install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2" name="Text Box 5"/>
          <p:cNvSpPr/>
          <p:nvPr/>
        </p:nvSpPr>
        <p:spPr>
          <a:xfrm>
            <a:off x="914400" y="5486400"/>
            <a:ext cx="792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Seven firefighters said the fire began about 1 a.m. near an electric baseboard heater. Three children died, ages 6, 2 and 14 months”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Cleveland News, Dec 5, 2007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83" name="Picture 16" descr="large_shaker"/>
          <p:cNvPicPr/>
          <p:nvPr/>
        </p:nvPicPr>
        <p:blipFill>
          <a:blip r:embed="rId1"/>
          <a:srcRect l="0" t="0" r="0" b="20930"/>
          <a:stretch/>
        </p:blipFill>
        <p:spPr>
          <a:xfrm>
            <a:off x="3962520" y="2666880"/>
            <a:ext cx="4800600" cy="2590920"/>
          </a:xfrm>
          <a:prstGeom prst="rect">
            <a:avLst/>
          </a:prstGeom>
          <a:ln w="0">
            <a:noFill/>
          </a:ln>
        </p:spPr>
      </p:pic>
      <p:sp>
        <p:nvSpPr>
          <p:cNvPr id="884" name="Text Box 18"/>
          <p:cNvSpPr/>
          <p:nvPr/>
        </p:nvSpPr>
        <p:spPr>
          <a:xfrm>
            <a:off x="966960" y="2513160"/>
            <a:ext cx="288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rrect installation can easily result in electrical fir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Inadvertent actions can create </a:t>
            </a:r>
            <a:br>
              <a:rPr sz="3600"/>
            </a:b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fire haz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3873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opper water pipe repairs with “</a:t>
            </a:r>
            <a:r>
              <a:rPr b="1" lang="en-CA" sz="2000" spc="-1" strike="noStrike">
                <a:solidFill>
                  <a:srgbClr val="003366"/>
                </a:solidFill>
                <a:latin typeface="Arial"/>
              </a:rPr>
              <a:t>PEX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” can disconnect the  ground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Old </a:t>
            </a:r>
            <a:r>
              <a:rPr b="1" lang="en-CA" sz="2000" spc="-1" strike="noStrike">
                <a:solidFill>
                  <a:srgbClr val="003366"/>
                </a:solidFill>
                <a:latin typeface="Arial"/>
              </a:rPr>
              <a:t>hot-water-tank cable, 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live and dangling; often near the gas line.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	</a:t>
            </a:r>
            <a:br>
              <a:rPr sz="2000"/>
            </a:b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3366"/>
                </a:solidFill>
                <a:latin typeface="Arial"/>
              </a:rPr>
              <a:t>These deficiencies create Real fire hazards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87" name="Picture Placeholder 8" descr=""/>
          <p:cNvPicPr/>
          <p:nvPr/>
        </p:nvPicPr>
        <p:blipFill>
          <a:blip r:embed="rId1"/>
          <a:stretch/>
        </p:blipFill>
        <p:spPr>
          <a:xfrm>
            <a:off x="5076720" y="2514600"/>
            <a:ext cx="3276720" cy="3733920"/>
          </a:xfrm>
          <a:prstGeom prst="rect">
            <a:avLst/>
          </a:prstGeom>
          <a:ln w="0">
            <a:noFill/>
          </a:ln>
        </p:spPr>
      </p:pic>
      <p:sp>
        <p:nvSpPr>
          <p:cNvPr id="888" name="Footer Placeholder 3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Footer Placeholder 4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851120" y="2514600"/>
            <a:ext cx="5457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lectrical fire hazards in most homes built before 1975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ough deterioration of older wiring is occasionally found, the vast majority of fire hazards are due to handyman tinkering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14040" y="772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A solution for safety:</a:t>
            </a:r>
            <a:br>
              <a:rPr sz="3600"/>
            </a:b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An electrical examin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243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n electrical examination finds out what needs to be done to make house safe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4" name="Footer Placeholder 4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© PowerCheck Electrical Safety Services 2009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95" name="Content Placeholder 10" descr=""/>
          <p:cNvPicPr/>
          <p:nvPr/>
        </p:nvPicPr>
        <p:blipFill>
          <a:blip r:embed="rId1"/>
          <a:stretch/>
        </p:blipFill>
        <p:spPr>
          <a:xfrm>
            <a:off x="4991040" y="290988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Footer Placeholder 5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042560" y="76176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PowerCheck examin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rehensi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ducted by master electrician (FSR in B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party examination on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99" name="Content Placeholder 2" descr=""/>
          <p:cNvPicPr/>
          <p:nvPr/>
        </p:nvPicPr>
        <p:blipFill>
          <a:blip r:embed="rId1"/>
          <a:stretch/>
        </p:blipFill>
        <p:spPr>
          <a:xfrm>
            <a:off x="4991040" y="290988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Old house: Higher probability of fi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2" name="TextBox 11"/>
          <p:cNvSpPr/>
          <p:nvPr/>
        </p:nvSpPr>
        <p:spPr>
          <a:xfrm>
            <a:off x="1332000" y="6012000"/>
            <a:ext cx="72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In 25%, house construction date unknown. Data source: BC OF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33" name="Picture 6" descr=""/>
          <p:cNvPicPr/>
          <p:nvPr/>
        </p:nvPicPr>
        <p:blipFill>
          <a:blip r:embed="rId1"/>
          <a:stretch/>
        </p:blipFill>
        <p:spPr>
          <a:xfrm>
            <a:off x="2336760" y="2467080"/>
            <a:ext cx="4467240" cy="3409920"/>
          </a:xfrm>
          <a:prstGeom prst="rect">
            <a:avLst/>
          </a:prstGeom>
          <a:ln w="0">
            <a:noFill/>
          </a:ln>
        </p:spPr>
      </p:pic>
      <p:sp>
        <p:nvSpPr>
          <p:cNvPr id="734" name="Footer Placeholder 3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Footer Placeholder 5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resul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3317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fe hou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ppy homeown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03" name="Picture 5" descr="happy_homeowners"/>
          <p:cNvPicPr/>
          <p:nvPr/>
        </p:nvPicPr>
        <p:blipFill>
          <a:blip r:embed="rId1"/>
          <a:stretch/>
        </p:blipFill>
        <p:spPr>
          <a:xfrm>
            <a:off x="6019920" y="2438280"/>
            <a:ext cx="2819160" cy="4032360"/>
          </a:xfrm>
          <a:prstGeom prst="rect">
            <a:avLst/>
          </a:prstGeom>
          <a:ln w="0">
            <a:noFill/>
          </a:ln>
        </p:spPr>
      </p:pic>
      <p:sp>
        <p:nvSpPr>
          <p:cNvPr id="904" name="Text Box 7"/>
          <p:cNvSpPr/>
          <p:nvPr/>
        </p:nvSpPr>
        <p:spPr>
          <a:xfrm>
            <a:off x="1600200" y="4710240"/>
            <a:ext cx="430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ver 4000 clients have had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ir electrical system examined by PowerCheck. Nearly all have said,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It was the best thing that </a:t>
            </a:r>
            <a:br>
              <a:rPr sz="1800"/>
            </a:b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we have ever done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causing the electrical fir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riginal wir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buClr>
                <a:srgbClr val="003366"/>
              </a:buClr>
              <a:buSzPct val="105000"/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mportant to check, sometimes faul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buClr>
                <a:srgbClr val="003366"/>
              </a:buClr>
              <a:buSzPct val="105000"/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t the leading cause of fi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andyman tinkering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buClr>
                <a:srgbClr val="003366"/>
              </a:buClr>
              <a:buSzPct val="105000"/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counts for the vast majority of electrical fir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buClr>
                <a:srgbClr val="003366"/>
              </a:buClr>
              <a:buSzPct val="105000"/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bability of handyman tinkering present increases with age of ho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buClr>
                <a:srgbClr val="003366"/>
              </a:buClr>
              <a:buSzPct val="105000"/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Old houses often found rampant with “Hazardous handyman add-ons”!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Text Box 4"/>
          <p:cNvSpPr/>
          <p:nvPr/>
        </p:nvSpPr>
        <p:spPr>
          <a:xfrm>
            <a:off x="505620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38" name="Picture 9" descr="handyman add-ons"/>
          <p:cNvPicPr/>
          <p:nvPr/>
        </p:nvPicPr>
        <p:blipFill>
          <a:blip r:embed="rId1"/>
          <a:stretch/>
        </p:blipFill>
        <p:spPr>
          <a:xfrm>
            <a:off x="5257800" y="2492280"/>
            <a:ext cx="3402000" cy="2376720"/>
          </a:xfrm>
          <a:prstGeom prst="rect">
            <a:avLst/>
          </a:prstGeom>
          <a:ln w="0">
            <a:noFill/>
          </a:ln>
        </p:spPr>
      </p:pic>
      <p:sp>
        <p:nvSpPr>
          <p:cNvPr id="739" name="Text Box 10"/>
          <p:cNvSpPr/>
          <p:nvPr/>
        </p:nvSpPr>
        <p:spPr>
          <a:xfrm>
            <a:off x="5257800" y="4941720"/>
            <a:ext cx="34653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azardous add-ons are common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 older houses. These dangerous additions put the house at high risk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f electrical fir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Footer Placeholder 3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ical System Compon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40892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ee components to your electrical system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366"/>
              </a:buClr>
              <a:buSzPct val="10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ervice &amp; Panelboard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366"/>
              </a:buClr>
              <a:buSzPct val="10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ir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366"/>
              </a:buClr>
              <a:buSzPct val="10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lectrical devi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(switches, receptacles, light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3" name="Oval 8"/>
          <p:cNvSpPr/>
          <p:nvPr/>
        </p:nvSpPr>
        <p:spPr>
          <a:xfrm>
            <a:off x="7236000" y="3573360"/>
            <a:ext cx="360360" cy="3603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Oval 10"/>
          <p:cNvSpPr/>
          <p:nvPr/>
        </p:nvSpPr>
        <p:spPr>
          <a:xfrm>
            <a:off x="8172360" y="4221000"/>
            <a:ext cx="360360" cy="3603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Oval 11"/>
          <p:cNvSpPr/>
          <p:nvPr/>
        </p:nvSpPr>
        <p:spPr>
          <a:xfrm>
            <a:off x="7740720" y="4005360"/>
            <a:ext cx="360360" cy="3603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46" name="Group 26"/>
          <p:cNvGrpSpPr/>
          <p:nvPr/>
        </p:nvGrpSpPr>
        <p:grpSpPr>
          <a:xfrm>
            <a:off x="4140360" y="2565360"/>
            <a:ext cx="4968360" cy="3742920"/>
            <a:chOff x="4140360" y="2565360"/>
            <a:chExt cx="4968360" cy="3742920"/>
          </a:xfrm>
        </p:grpSpPr>
        <p:pic>
          <p:nvPicPr>
            <p:cNvPr id="747" name="Picture 5" descr="electrical-wiring-00"/>
            <p:cNvPicPr/>
            <p:nvPr/>
          </p:nvPicPr>
          <p:blipFill>
            <a:blip r:embed="rId1"/>
            <a:stretch/>
          </p:blipFill>
          <p:spPr>
            <a:xfrm>
              <a:off x="5292720" y="2584800"/>
              <a:ext cx="3600000" cy="3723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8" name="Group 25"/>
            <p:cNvGrpSpPr/>
            <p:nvPr/>
          </p:nvGrpSpPr>
          <p:grpSpPr>
            <a:xfrm>
              <a:off x="4140360" y="2565360"/>
              <a:ext cx="4968360" cy="3127320"/>
              <a:chOff x="4140360" y="2565360"/>
              <a:chExt cx="4968360" cy="3127320"/>
            </a:xfrm>
          </p:grpSpPr>
          <p:sp>
            <p:nvSpPr>
              <p:cNvPr id="749" name="Oval 7"/>
              <p:cNvSpPr/>
              <p:nvPr/>
            </p:nvSpPr>
            <p:spPr>
              <a:xfrm>
                <a:off x="5364000" y="4643640"/>
                <a:ext cx="864720" cy="104904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0" name="Text Box 12"/>
              <p:cNvSpPr/>
              <p:nvPr/>
            </p:nvSpPr>
            <p:spPr>
              <a:xfrm>
                <a:off x="4140360" y="4435200"/>
                <a:ext cx="136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Service &amp; Panelboard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1" name="Text Box 13"/>
              <p:cNvSpPr/>
              <p:nvPr/>
            </p:nvSpPr>
            <p:spPr>
              <a:xfrm>
                <a:off x="6300720" y="2565360"/>
                <a:ext cx="100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Wiring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2" name="Text Box 14"/>
              <p:cNvSpPr/>
              <p:nvPr/>
            </p:nvSpPr>
            <p:spPr>
              <a:xfrm>
                <a:off x="7812000" y="2573280"/>
                <a:ext cx="1296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Electrical devices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3" name="Line 16"/>
              <p:cNvSpPr/>
              <p:nvPr/>
            </p:nvSpPr>
            <p:spPr>
              <a:xfrm>
                <a:off x="6804000" y="2944440"/>
                <a:ext cx="144000" cy="17139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4" name="Line 17"/>
              <p:cNvSpPr/>
              <p:nvPr/>
            </p:nvSpPr>
            <p:spPr>
              <a:xfrm>
                <a:off x="6804000" y="2944440"/>
                <a:ext cx="288360" cy="12672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5" name="Line 18"/>
              <p:cNvSpPr/>
              <p:nvPr/>
            </p:nvSpPr>
            <p:spPr>
              <a:xfrm flipH="1">
                <a:off x="7740360" y="3243240"/>
                <a:ext cx="504360" cy="4464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6" name="Line 19"/>
              <p:cNvSpPr/>
              <p:nvPr/>
            </p:nvSpPr>
            <p:spPr>
              <a:xfrm flipH="1">
                <a:off x="8101080" y="3243240"/>
                <a:ext cx="144000" cy="8193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7" name="Line 20"/>
              <p:cNvSpPr/>
              <p:nvPr/>
            </p:nvSpPr>
            <p:spPr>
              <a:xfrm>
                <a:off x="8245440" y="3243240"/>
                <a:ext cx="215640" cy="10425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8" name="Line 24"/>
              <p:cNvSpPr/>
              <p:nvPr/>
            </p:nvSpPr>
            <p:spPr>
              <a:xfrm>
                <a:off x="5003640" y="5023080"/>
                <a:ext cx="360000" cy="74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Footer Placeholder 3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rvice size: 100 amps or 60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400" y="2467080"/>
            <a:ext cx="416232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til the1970s, 60 amp service was the norm in single-family hom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f there has been no additional circuits: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riginal 60 amp service is still acceptable and safe tod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0-amp service is often not recogniz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Text Box 16"/>
          <p:cNvSpPr/>
          <p:nvPr/>
        </p:nvSpPr>
        <p:spPr>
          <a:xfrm>
            <a:off x="5410080" y="54100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nclosure is rated for 100 amps but inside box is 60 amp servic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Text Box 19"/>
          <p:cNvSpPr/>
          <p:nvPr/>
        </p:nvSpPr>
        <p:spPr>
          <a:xfrm>
            <a:off x="7467480" y="3870360"/>
            <a:ext cx="1067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60-amp fuses,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60-amp servic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4" name="Group 22"/>
          <p:cNvGrpSpPr/>
          <p:nvPr/>
        </p:nvGrpSpPr>
        <p:grpSpPr>
          <a:xfrm>
            <a:off x="5715000" y="2590920"/>
            <a:ext cx="2082240" cy="2635200"/>
            <a:chOff x="5715000" y="2590920"/>
            <a:chExt cx="2082240" cy="2635200"/>
          </a:xfrm>
        </p:grpSpPr>
        <p:pic>
          <p:nvPicPr>
            <p:cNvPr id="765" name="Picture 14" descr="100-amp switch box"/>
            <p:cNvPicPr/>
            <p:nvPr/>
          </p:nvPicPr>
          <p:blipFill>
            <a:blip r:embed="rId1"/>
            <a:stretch/>
          </p:blipFill>
          <p:spPr>
            <a:xfrm>
              <a:off x="5715000" y="2590920"/>
              <a:ext cx="1852920" cy="26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Line 18"/>
            <p:cNvSpPr/>
            <p:nvPr/>
          </p:nvSpPr>
          <p:spPr>
            <a:xfrm flipH="1">
              <a:off x="6878520" y="3142440"/>
              <a:ext cx="673560" cy="36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7" name="Line 20"/>
            <p:cNvSpPr/>
            <p:nvPr/>
          </p:nvSpPr>
          <p:spPr>
            <a:xfrm flipH="1">
              <a:off x="7246080" y="4184280"/>
              <a:ext cx="55116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68" name="Text Box 17"/>
          <p:cNvSpPr/>
          <p:nvPr/>
        </p:nvSpPr>
        <p:spPr>
          <a:xfrm>
            <a:off x="7315200" y="2514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ated for 100 amps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Footer Placeholder 3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79120" y="914400"/>
            <a:ext cx="76532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Main circuit breaker can present incorrect service siz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771" name="Content Placeholder 5" descr=""/>
          <p:cNvPicPr/>
          <p:nvPr/>
        </p:nvPicPr>
        <p:blipFill>
          <a:blip r:embed="rId1"/>
          <a:stretch/>
        </p:blipFill>
        <p:spPr>
          <a:xfrm>
            <a:off x="4788000" y="2421000"/>
            <a:ext cx="4046400" cy="3095640"/>
          </a:xfrm>
          <a:prstGeom prst="rect">
            <a:avLst/>
          </a:prstGeom>
          <a:ln w="0">
            <a:noFill/>
          </a:ln>
        </p:spPr>
      </p:pic>
      <p:pic>
        <p:nvPicPr>
          <p:cNvPr id="772" name="Content Placeholder 10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2900520" cy="3167280"/>
          </a:xfrm>
          <a:prstGeom prst="rect">
            <a:avLst/>
          </a:prstGeom>
          <a:ln w="0">
            <a:noFill/>
          </a:ln>
        </p:spPr>
      </p:pic>
      <p:sp>
        <p:nvSpPr>
          <p:cNvPr id="773" name="TextBox 11"/>
          <p:cNvSpPr/>
          <p:nvPr/>
        </p:nvSpPr>
        <p:spPr>
          <a:xfrm>
            <a:off x="1143000" y="556272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hese illegal upgrades present what appears to be 100 &amp; 200 amp services, but in fact both are very hazardous 60 amp services (Note the wire size: 60 amps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4" name="Oval 13"/>
          <p:cNvSpPr/>
          <p:nvPr/>
        </p:nvSpPr>
        <p:spPr>
          <a:xfrm>
            <a:off x="6588000" y="4221000"/>
            <a:ext cx="505080" cy="57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75" name="Group 19"/>
          <p:cNvGrpSpPr/>
          <p:nvPr/>
        </p:nvGrpSpPr>
        <p:grpSpPr>
          <a:xfrm>
            <a:off x="7085880" y="4221000"/>
            <a:ext cx="1589760" cy="398880"/>
            <a:chOff x="7085880" y="4221000"/>
            <a:chExt cx="1589760" cy="398880"/>
          </a:xfrm>
        </p:grpSpPr>
        <p:sp>
          <p:nvSpPr>
            <p:cNvPr id="776" name="TextBox 14"/>
            <p:cNvSpPr/>
            <p:nvPr/>
          </p:nvSpPr>
          <p:spPr>
            <a:xfrm>
              <a:off x="7452000" y="4221000"/>
              <a:ext cx="122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ffff"/>
                  </a:solidFill>
                  <a:latin typeface="Arial"/>
                </a:rPr>
                <a:t>200 amp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777" name="Straight Arrow Connector 16"/>
            <p:cNvCxnSpPr>
              <a:stCxn id="776" idx="1"/>
            </p:cNvCxnSpPr>
            <p:nvPr/>
          </p:nvCxnSpPr>
          <p:spPr>
            <a:xfrm flipH="1" flipV="1">
              <a:off x="7085880" y="4417200"/>
              <a:ext cx="383400" cy="3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</p:grpSp>
      <p:cxnSp>
        <p:nvCxnSpPr>
          <p:cNvPr id="778" name="Straight Arrow Connector 20"/>
          <p:cNvCxnSpPr/>
          <p:nvPr/>
        </p:nvCxnSpPr>
        <p:spPr>
          <a:xfrm flipH="1" flipV="1">
            <a:off x="7681680" y="2997000"/>
            <a:ext cx="383040" cy="3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79" name="Rectangle 21"/>
          <p:cNvSpPr/>
          <p:nvPr/>
        </p:nvSpPr>
        <p:spPr>
          <a:xfrm>
            <a:off x="7889400" y="278136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60 am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Footer Placeholder 3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mon hazard in panelboards: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verrated circuit breakers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782" name="Picture 13" descr="15-amp CB"/>
          <p:cNvPicPr/>
          <p:nvPr/>
        </p:nvPicPr>
        <p:blipFill>
          <a:blip r:embed="rId1"/>
          <a:stretch/>
        </p:blipFill>
        <p:spPr>
          <a:xfrm>
            <a:off x="1606680" y="2924280"/>
            <a:ext cx="2539800" cy="253980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14" descr="30-amp CB"/>
          <p:cNvPicPr/>
          <p:nvPr/>
        </p:nvPicPr>
        <p:blipFill>
          <a:blip r:embed="rId2"/>
          <a:stretch/>
        </p:blipFill>
        <p:spPr>
          <a:xfrm>
            <a:off x="5683320" y="2924280"/>
            <a:ext cx="2539800" cy="2539800"/>
          </a:xfrm>
          <a:prstGeom prst="rect">
            <a:avLst/>
          </a:prstGeom>
          <a:ln w="0">
            <a:noFill/>
          </a:ln>
        </p:spPr>
      </p:pic>
      <p:sp>
        <p:nvSpPr>
          <p:cNvPr id="784" name="AutoShape 15"/>
          <p:cNvSpPr/>
          <p:nvPr/>
        </p:nvSpPr>
        <p:spPr>
          <a:xfrm>
            <a:off x="4191120" y="3699000"/>
            <a:ext cx="1143000" cy="609480"/>
          </a:xfrm>
          <a:prstGeom prst="rightArrow">
            <a:avLst>
              <a:gd name="adj1" fmla="val 50000"/>
              <a:gd name="adj2" fmla="val 46884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Text Box 16"/>
          <p:cNvSpPr/>
          <p:nvPr/>
        </p:nvSpPr>
        <p:spPr>
          <a:xfrm>
            <a:off x="1447920" y="549576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5 amp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ircuit break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Text Box 17"/>
          <p:cNvSpPr/>
          <p:nvPr/>
        </p:nvSpPr>
        <p:spPr>
          <a:xfrm>
            <a:off x="5410080" y="551196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0 amp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ircuit break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Footer Placeholder 3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4" descr="aluminum wiring_burned"/>
          <p:cNvPicPr/>
          <p:nvPr/>
        </p:nvPicPr>
        <p:blipFill>
          <a:blip r:embed="rId1"/>
          <a:srcRect l="1452" t="1468" r="2201" b="7531"/>
          <a:stretch/>
        </p:blipFill>
        <p:spPr>
          <a:xfrm>
            <a:off x="2430360" y="2513160"/>
            <a:ext cx="4589640" cy="330516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verrated circuit breakers can result in over-heated conducto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0" name="Footer Placeholder 3"/>
          <p:cNvSpPr/>
          <p:nvPr/>
        </p:nvSpPr>
        <p:spPr>
          <a:xfrm>
            <a:off x="2865600" y="6583320"/>
            <a:ext cx="39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© PowerCheck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Electrical Safety Services 201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TextBox 1"/>
          <p:cNvSpPr/>
          <p:nvPr/>
        </p:nvSpPr>
        <p:spPr>
          <a:xfrm>
            <a:off x="826920" y="5867280"/>
            <a:ext cx="831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he circuit breaker provides the protection of the wires from overcurrent. If the circuit breaker is oversized, it won’t trip when need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1:27:14Z</dcterms:created>
  <dc:creator>Brian</dc:creator>
  <dc:description/>
  <dc:language>en-US</dc:language>
  <cp:lastModifiedBy>Laura Redmond</cp:lastModifiedBy>
  <cp:lastPrinted>2009-09-25T19:41:51Z</cp:lastPrinted>
  <dcterms:modified xsi:type="dcterms:W3CDTF">2013-10-18T01:56:54Z</dcterms:modified>
  <cp:revision>2226</cp:revision>
  <dc:subject/>
  <dc:title>PowerPoint Presentation  -  PowerCheck slide presentation</dc:title>
</cp:coreProperties>
</file>